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C99E-28EC-4C97-8FC0-CA06B1D95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684D-6E0B-4527-8D9B-A53FE0DCF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CEB1-9D71-45D6-A8A4-3E2D981A3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9129-EECA-4C86-872D-0CDF1710D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BE3A0-A04C-49B5-842D-79B752E51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A376A-4D78-4A0C-90FD-B0F198AB3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D20FF-8C9B-457C-B0C3-83E23C340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9F0B9-8F79-4809-B54D-2F00162B5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1932C-01E5-4852-A0EE-E07CB4328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3EA30-6BD4-4802-98DE-2E374D549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1D8C5-7069-4B73-A899-542D828E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9FBC-3F9B-4F87-831E-034087991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DF20B-C91E-405F-92A2-A8B36EE8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545D2-25ED-4250-858B-577B90BA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537AA-66C6-48CA-BAF4-4B247CE2B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10B4B-885D-40F6-8071-905937466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1FEFE-F0F2-48BC-802D-A27307D7B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439E9-597E-4F56-8823-4998AFDEA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B8F62-A099-4335-8FFE-D3E9F5F8E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E18FB-66DD-403E-A4F0-04CE40881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09641-415C-4BAB-BF53-53974A0DA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34884-DD07-4E16-9D35-CF415A02B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6162-9DC1-4F32-B1C9-201885D99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D4C33-3A0D-4C5B-96C7-81AA69312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F66B2-10E4-467A-ADD2-79F44952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3268D-1F78-4E1F-B93C-E929D02E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1392A-DFBE-4C78-839A-70CB4C2A2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06942-B8BF-492F-9224-A1AAA6B4D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A1C30-D015-4675-A7CE-D944C416D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7A0E3-6901-467C-B803-A7CCBE29E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1A4AC-B8EE-4CB5-A5EA-30B4B69D4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5E8BD-84EB-4FD7-BEEB-882AEE359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23200-32E5-4902-979B-352751ADE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31C3-7B07-4B2C-BDF7-B78D04FB7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406F3-65BF-42D2-86F0-A1FAF5A13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DB3EF-5DB4-4DD4-BC22-E77744D0E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9A332-56B2-4944-AE3F-141AA8E08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1981A-0F10-4F4E-A87C-0E889509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84F45-4970-479B-AA5C-A2028A87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4F41E-B5B6-45D1-B7A4-9B36D43F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B0C08-EAAA-4C44-8D16-22BFD20E2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1822D-D980-48C2-B36F-7B8467B64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B206D-6268-4050-8CA6-E2B587ADD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ACC71-E8EA-4B1A-B1A3-398BC17C9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C6EF-4601-4A38-8B67-B8145686A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DB71CB-4B4F-4EC7-BD2B-8441D9B42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7F53C3-F589-40ED-BE69-856FDD369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348E41-201B-473F-AE47-8A5F73B2E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0BA1D-196E-4716-9A60-F4799E708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617561-E759-4C56-A40C-67FF9737A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E49868-CFE0-49B8-B949-38BA45496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74ACB8-1392-4D0B-BF9A-1D7FA5035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D3D90B-BEE0-49E4-AF54-654D1102D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F9664C-9C25-4431-894E-812037915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EA809-6DE5-4F36-B640-2022FC016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1C8F-0382-46EA-8CA0-3DAE2F79C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0BD3A-C6FD-4C18-86CE-ED1FE310C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5F5A64-2F08-4841-AE6C-B56C74181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BA016-021E-47A5-8401-3A0FB0A3B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B21345-D266-463B-81E6-DD6CDF5B7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DFAEDB-6BF9-4265-ADA9-14AB19988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97111E-A1C0-4BFC-9B61-6E2ED7463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1634A-CAC7-4035-9C9D-036BB158F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EC7EB4-8C33-47B0-A46D-417F85AAC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EE8577-E888-4933-BCEA-EEF39395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AFA6DC-7F66-4D60-93F2-01B714379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FE62-BD2B-41C8-A9AE-34920D99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DE0BD8-056F-4F59-971B-348284CD1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D2E991-AF29-4AA5-BD41-D25C8D4FF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A9A745-4749-4751-A4DB-7C4948E1B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8B4ACA-5A7F-4B00-A922-F136F8FAE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A5E623-BB87-493F-9C11-D0BD37CA5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7A2141-8F53-4FE8-A22D-EA2D11C6B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C3216C-E982-4113-A92C-EBB790B5E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CD1C9A-CDE0-4C2C-810C-2E412977A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E42CCA-9D4D-4A2E-8BEE-CB502DB6D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7EB8B5-5208-484F-AB67-FFF38C37A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8875-308C-47C8-A965-F35BF7F98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835DCC-46A5-403E-9366-F0A05EA8B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5077E2-B13D-420B-AB16-825377F0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1B197A-C0AD-4655-9CE2-0BAF46CEC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060264-DCA0-4CFA-826E-49D6C37F6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8707FA-BAD4-41D8-A2FC-939714DBB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5DEAE0-778D-4299-8EEC-3D441D21D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D07001-55CD-4553-87F0-2BAD1DF2A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8D00BD-23FF-43FF-81BF-70B270798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4BD502-64DB-4DA7-945B-07DC7B76F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E43089-19A9-4BD9-B50F-9F78F2AE7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BC7F-0F65-4D58-BEFC-0658FCB6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727480-61B3-4F79-9546-3211566C5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C2FD78-5BE1-479D-8EDB-19A9939C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A81BE8-2BF5-44C1-B107-E95A622D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573AFA-B792-4767-A835-93F851C3A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D41CD8-ACC8-4B7B-9E24-98F0D0861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6528BB-110C-45B7-98E9-FFB44C569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138AF4-4BB6-4457-B912-31E971127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85.xml"/><Relationship Id="rId10" Type="http://schemas.openxmlformats.org/officeDocument/2006/relationships/slideLayout" Target="../slideLayouts/slideLayout86.xml"/><Relationship Id="rId11" Type="http://schemas.openxmlformats.org/officeDocument/2006/relationships/slideLayout" Target="../slideLayouts/slideLayout87.xml"/><Relationship Id="rId12" Type="http://schemas.openxmlformats.org/officeDocument/2006/relationships/slideLayout" Target="../slideLayouts/slideLayout88.xml"/><Relationship Id="rId13" Type="http://schemas.openxmlformats.org/officeDocument/2006/relationships/slideLayout" Target="../slideLayouts/slideLayout89.xml"/><Relationship Id="rId14" Type="http://schemas.openxmlformats.org/officeDocument/2006/relationships/slideLayout" Target="../slideLayouts/slideLayout90.xml"/><Relationship Id="rId15" Type="http://schemas.openxmlformats.org/officeDocument/2006/relationships/slideLayout" Target="../slideLayouts/slideLayout91.xml"/><Relationship Id="rId16" Type="http://schemas.openxmlformats.org/officeDocument/2006/relationships/slideLayout" Target="../slideLayouts/slideLayout92.xml"/><Relationship Id="rId17" Type="http://schemas.openxmlformats.org/officeDocument/2006/relationships/slideLayout" Target="../slideLayouts/slideLayout93.xml"/><Relationship Id="rId18" Type="http://schemas.openxmlformats.org/officeDocument/2006/relationships/slideLayout" Target="../slideLayouts/slideLayout94.xml"/><Relationship Id="rId19" Type="http://schemas.openxmlformats.org/officeDocument/2006/relationships/slideLayout" Target="../slideLayouts/slideLayout95.xml"/><Relationship Id="rId20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62E03-8318-4DC1-89D8-3589522E7EE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9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0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2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54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55" name="Полилиния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6" name="Полилиния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7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8" name="Полилиния 19" descr=""/>
              <p:cNvPicPr/>
              <p:nvPr/>
            </p:nvPicPr>
            <p:blipFill>
              <a:blip r:embed="rId5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60" name="Прямая соединительная линия 20" descr=""/>
            <p:cNvPicPr/>
            <p:nvPr/>
          </p:nvPicPr>
          <p:blipFill>
            <a:blip r:embed="rId6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FA1B6-4B8A-489B-BC95-9B6787800ED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04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05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7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grpSp>
        <p:nvGrpSpPr>
          <p:cNvPr id="108" name="Нашивка 10"/>
          <p:cNvGrpSpPr/>
          <p:nvPr/>
        </p:nvGrpSpPr>
        <p:grpSpPr>
          <a:xfrm>
            <a:off x="3560760" y="2955960"/>
            <a:ext cx="334800" cy="377640"/>
            <a:chOff x="3560760" y="2955960"/>
            <a:chExt cx="334800" cy="377640"/>
          </a:xfrm>
        </p:grpSpPr>
        <p:pic>
          <p:nvPicPr>
            <p:cNvPr id="109" name="Нашивка 10" descr=""/>
            <p:cNvPicPr/>
            <p:nvPr/>
          </p:nvPicPr>
          <p:blipFill>
            <a:blip r:embed="rId5"/>
            <a:stretch/>
          </p:blipFill>
          <p:spPr>
            <a:xfrm>
              <a:off x="3560760" y="2955960"/>
              <a:ext cx="3348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3637080" y="3005280"/>
              <a:ext cx="182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grpSp>
        <p:nvGrpSpPr>
          <p:cNvPr id="111" name="Нашивка 15"/>
          <p:cNvGrpSpPr/>
          <p:nvPr/>
        </p:nvGrpSpPr>
        <p:grpSpPr>
          <a:xfrm>
            <a:off x="3371760" y="2955960"/>
            <a:ext cx="335160" cy="377640"/>
            <a:chOff x="3371760" y="2955960"/>
            <a:chExt cx="335160" cy="377640"/>
          </a:xfrm>
        </p:grpSpPr>
        <p:pic>
          <p:nvPicPr>
            <p:cNvPr id="112" name="Нашивка 15" descr=""/>
            <p:cNvPicPr/>
            <p:nvPr/>
          </p:nvPicPr>
          <p:blipFill>
            <a:blip r:embed="rId6"/>
            <a:stretch/>
          </p:blipFill>
          <p:spPr>
            <a:xfrm>
              <a:off x="3371760" y="2955960"/>
              <a:ext cx="33516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3449520" y="300528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9A32F-0571-45D9-B7A5-5CC244D68D5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5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5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6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C9204-89E3-4F2A-9B35-9D27EAC6A52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04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05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07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3E798-3DE4-43AF-BC48-DF8E453BE40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51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52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54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7E3B7-9010-4051-A525-F721D62CB73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E9272-7B3F-4021-988F-B57D91D2DCD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4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4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4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49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51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52" name="Прямоугольный треугольник 16" descr=""/>
            <p:cNvPicPr/>
            <p:nvPr/>
          </p:nvPicPr>
          <p:blipFill>
            <a:blip r:embed="rId5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54" name="Прямая соединительная линия 18" descr=""/>
          <p:cNvPicPr/>
          <p:nvPr/>
        </p:nvPicPr>
        <p:blipFill>
          <a:blip r:embed="rId6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grpSp>
        <p:nvGrpSpPr>
          <p:cNvPr id="355" name="Нашивка 19"/>
          <p:cNvGrpSpPr/>
          <p:nvPr/>
        </p:nvGrpSpPr>
        <p:grpSpPr>
          <a:xfrm>
            <a:off x="8583480" y="4937040"/>
            <a:ext cx="335160" cy="378000"/>
            <a:chOff x="8583480" y="4937040"/>
            <a:chExt cx="335160" cy="378000"/>
          </a:xfrm>
        </p:grpSpPr>
        <p:pic>
          <p:nvPicPr>
            <p:cNvPr id="356" name="Нашивка 19" descr=""/>
            <p:cNvPicPr/>
            <p:nvPr/>
          </p:nvPicPr>
          <p:blipFill>
            <a:blip r:embed="rId7"/>
            <a:stretch/>
          </p:blipFill>
          <p:spPr>
            <a:xfrm>
              <a:off x="8583480" y="4937040"/>
              <a:ext cx="33516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8664480" y="4987800"/>
              <a:ext cx="182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grpSp>
        <p:nvGrpSpPr>
          <p:cNvPr id="358" name="Нашивка 20"/>
          <p:cNvGrpSpPr/>
          <p:nvPr/>
        </p:nvGrpSpPr>
        <p:grpSpPr>
          <a:xfrm>
            <a:off x="8400960" y="4937040"/>
            <a:ext cx="335160" cy="378000"/>
            <a:chOff x="8400960" y="4937040"/>
            <a:chExt cx="335160" cy="378000"/>
          </a:xfrm>
        </p:grpSpPr>
        <p:pic>
          <p:nvPicPr>
            <p:cNvPr id="359" name="Нашивка 20" descr=""/>
            <p:cNvPicPr/>
            <p:nvPr/>
          </p:nvPicPr>
          <p:blipFill>
            <a:blip r:embed="rId8"/>
            <a:stretch/>
          </p:blipFill>
          <p:spPr>
            <a:xfrm>
              <a:off x="8400960" y="4937040"/>
              <a:ext cx="33516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8477280" y="4987800"/>
              <a:ext cx="182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8096C-0312-4924-9CC5-333D3A6631A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9"/>
    <p:sldLayoutId id="2147483741" r:id="rId10"/>
    <p:sldLayoutId id="2147483742" r:id="rId11"/>
    <p:sldLayoutId id="2147483743" r:id="rId12"/>
    <p:sldLayoutId id="2147483744" r:id="rId13"/>
    <p:sldLayoutId id="2147483745" r:id="rId14"/>
    <p:sldLayoutId id="2147483746" r:id="rId15"/>
    <p:sldLayoutId id="2147483747" r:id="rId16"/>
    <p:sldLayoutId id="2147483748" r:id="rId17"/>
    <p:sldLayoutId id="2147483749" r:id="rId18"/>
    <p:sldLayoutId id="2147483750" r:id="rId19"/>
    <p:sldLayoutId id="2147483751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Заголовок 1" descr=""/>
          <p:cNvPicPr/>
          <p:nvPr/>
        </p:nvPicPr>
        <p:blipFill>
          <a:blip r:embed="rId1"/>
          <a:stretch/>
        </p:blipFill>
        <p:spPr>
          <a:xfrm>
            <a:off x="590400" y="2193840"/>
            <a:ext cx="8382240" cy="2244960"/>
          </a:xfrm>
          <a:prstGeom prst="rect">
            <a:avLst/>
          </a:prstGeom>
          <a:ln w="0">
            <a:noFill/>
          </a:ln>
        </p:spPr>
      </p:pic>
      <p:pic>
        <p:nvPicPr>
          <p:cNvPr id="403" name="Рисунок 3" descr="133.jpg"/>
          <p:cNvPicPr/>
          <p:nvPr/>
        </p:nvPicPr>
        <p:blipFill>
          <a:blip r:embed="rId2"/>
          <a:stretch/>
        </p:blipFill>
        <p:spPr>
          <a:xfrm>
            <a:off x="-30240" y="-103320"/>
            <a:ext cx="2992680" cy="285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d0d0d"/>
                </a:solidFill>
                <a:latin typeface="Lucida Sans Unicode"/>
              </a:rPr>
              <a:t>Что такое «десятичные дроби»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d0d0d"/>
                </a:solidFill>
                <a:latin typeface="Lucida Sans Unicode"/>
              </a:rPr>
              <a:t>Как складывать десятичные дроби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d0d0d"/>
                </a:solidFill>
                <a:latin typeface="Lucida Sans Unicode"/>
              </a:rPr>
              <a:t>Как вычитать десятичные дроби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d0d0d"/>
                </a:solidFill>
                <a:latin typeface="Lucida Sans Unicode"/>
              </a:rPr>
              <a:t>Важность данной темы  в нашей жизни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5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Lucida Sans Unicode"/>
              </a:rPr>
              <a:t>Отличать десятичные дроби от обыкновенных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Lucida Sans Unicode"/>
              </a:rPr>
              <a:t>Складывать десятичные дроб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Lucida Sans Unicode"/>
              </a:rPr>
              <a:t>Вычитать десятичные дроб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Содержимое 3" descr="888.jpg"/>
          <p:cNvPicPr/>
          <p:nvPr/>
        </p:nvPicPr>
        <p:blipFill>
          <a:blip r:embed="rId1"/>
          <a:stretch/>
        </p:blipFill>
        <p:spPr>
          <a:xfrm>
            <a:off x="115920" y="-23760"/>
            <a:ext cx="2975040" cy="3267000"/>
          </a:xfrm>
          <a:prstGeom prst="rect">
            <a:avLst/>
          </a:prstGeom>
          <a:ln w="0">
            <a:noFill/>
          </a:ln>
        </p:spPr>
      </p:pic>
      <p:pic>
        <p:nvPicPr>
          <p:cNvPr id="409" name="Заголовок 2" descr=""/>
          <p:cNvPicPr/>
          <p:nvPr/>
        </p:nvPicPr>
        <p:blipFill>
          <a:blip r:embed="rId2"/>
          <a:stretch/>
        </p:blipFill>
        <p:spPr>
          <a:xfrm>
            <a:off x="2664000" y="493560"/>
            <a:ext cx="6211800" cy="1159200"/>
          </a:xfrm>
          <a:prstGeom prst="rect">
            <a:avLst/>
          </a:prstGeom>
          <a:ln w="0">
            <a:noFill/>
          </a:ln>
        </p:spPr>
      </p:pic>
      <p:pic>
        <p:nvPicPr>
          <p:cNvPr id="410" name="Прямоугольник 5" descr=""/>
          <p:cNvPicPr/>
          <p:nvPr/>
        </p:nvPicPr>
        <p:blipFill>
          <a:blip r:embed="rId3"/>
          <a:stretch/>
        </p:blipFill>
        <p:spPr>
          <a:xfrm>
            <a:off x="731880" y="3164040"/>
            <a:ext cx="7991280" cy="20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Содержимое 3" descr="2.jpg"/>
          <p:cNvPicPr/>
          <p:nvPr/>
        </p:nvPicPr>
        <p:blipFill>
          <a:blip r:embed="rId1"/>
          <a:stretch/>
        </p:blipFill>
        <p:spPr>
          <a:xfrm>
            <a:off x="-23760" y="-23760"/>
            <a:ext cx="2419200" cy="3790800"/>
          </a:xfrm>
          <a:prstGeom prst="rect">
            <a:avLst/>
          </a:prstGeom>
          <a:ln w="0">
            <a:noFill/>
          </a:ln>
        </p:spPr>
      </p:pic>
      <p:pic>
        <p:nvPicPr>
          <p:cNvPr id="412" name="Заголовок 2" descr=""/>
          <p:cNvPicPr/>
          <p:nvPr/>
        </p:nvPicPr>
        <p:blipFill>
          <a:blip r:embed="rId2"/>
          <a:stretch/>
        </p:blipFill>
        <p:spPr>
          <a:xfrm>
            <a:off x="2919240" y="122400"/>
            <a:ext cx="6035760" cy="1341360"/>
          </a:xfrm>
          <a:prstGeom prst="rect">
            <a:avLst/>
          </a:prstGeom>
          <a:ln w="0">
            <a:noFill/>
          </a:ln>
        </p:spPr>
      </p:pic>
      <p:sp>
        <p:nvSpPr>
          <p:cNvPr id="413" name="Прямоугольник 4"/>
          <p:cNvSpPr/>
          <p:nvPr/>
        </p:nvSpPr>
        <p:spPr>
          <a:xfrm>
            <a:off x="2787840" y="1428840"/>
            <a:ext cx="271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0,56+0,19=0,75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Прямоугольник 5"/>
          <p:cNvSpPr/>
          <p:nvPr/>
        </p:nvSpPr>
        <p:spPr>
          <a:xfrm>
            <a:off x="2850480" y="1928880"/>
            <a:ext cx="3725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1,29+2,46=3,75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112,125+1,3=113,425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23,55+0,001=23,551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5+0,56=5,56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Прямоугольник 7"/>
          <p:cNvSpPr/>
          <p:nvPr/>
        </p:nvSpPr>
        <p:spPr>
          <a:xfrm>
            <a:off x="285840" y="4143240"/>
            <a:ext cx="807228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Чтобы сложить десятичные дроби нужно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Уравнять в этих дробях количество знаков после запятой,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Записать их друг под другом так, чтобы запятая была записана под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Запятой. Выполнить сложение, не обращая внимания на запятую, поставить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в ответе запятую под запятой в данных дробях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Содержимое 3" descr="OKSVAdrobi2-1.jpg"/>
          <p:cNvPicPr/>
          <p:nvPr/>
        </p:nvPicPr>
        <p:blipFill>
          <a:blip r:embed="rId1"/>
          <a:stretch/>
        </p:blipFill>
        <p:spPr>
          <a:xfrm>
            <a:off x="4827600" y="585720"/>
            <a:ext cx="4365720" cy="2144880"/>
          </a:xfrm>
          <a:prstGeom prst="rect">
            <a:avLst/>
          </a:prstGeom>
          <a:ln w="0">
            <a:noFill/>
          </a:ln>
        </p:spPr>
      </p:pic>
      <p:pic>
        <p:nvPicPr>
          <p:cNvPr id="417" name="Заголовок 2" descr=""/>
          <p:cNvPicPr/>
          <p:nvPr/>
        </p:nvPicPr>
        <p:blipFill>
          <a:blip r:embed="rId2"/>
          <a:stretch/>
        </p:blipFill>
        <p:spPr>
          <a:xfrm>
            <a:off x="493560" y="493560"/>
            <a:ext cx="4486320" cy="1908360"/>
          </a:xfrm>
          <a:prstGeom prst="rect">
            <a:avLst/>
          </a:prstGeom>
          <a:ln w="0">
            <a:noFill/>
          </a:ln>
        </p:spPr>
      </p:pic>
      <p:sp>
        <p:nvSpPr>
          <p:cNvPr id="418" name="Прямоугольник 4"/>
          <p:cNvSpPr/>
          <p:nvPr/>
        </p:nvSpPr>
        <p:spPr>
          <a:xfrm>
            <a:off x="1379880" y="2714760"/>
            <a:ext cx="4156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Lucida Sans Unicode"/>
              </a:rPr>
              <a:t>45,2-0,2=45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Lucida Sans Unicode"/>
              </a:rPr>
              <a:t>0,56-0,23=0,33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Lucida Sans Unicode"/>
              </a:rPr>
              <a:t>6,1-0,55=5,55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Lucida Sans Unicode"/>
              </a:rPr>
              <a:t>42,006-23,05=18,956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9" name="Прямоугольник 5"/>
          <p:cNvSpPr/>
          <p:nvPr/>
        </p:nvSpPr>
        <p:spPr>
          <a:xfrm>
            <a:off x="-322920" y="4714920"/>
            <a:ext cx="9736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Чтобы вычесть десятичные дроби нужно: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Уравнять в этих дробях количество знаков после запятой,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Записать их друг под другом так, чтобы запятая была записана под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Запятой. Выполнить вычитание, не обращая внимания на запятую, поставить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в ответе запятую под запятой в данных дробях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6T17:25:31Z</dcterms:created>
  <dc:creator>Ольга</dc:creator>
  <dc:description/>
  <dc:language>en-US</dc:language>
  <cp:lastModifiedBy>26054</cp:lastModifiedBy>
  <dcterms:modified xsi:type="dcterms:W3CDTF">2010-05-31T11:10:02Z</dcterms:modified>
  <cp:revision>7</cp:revision>
  <dc:subject/>
  <dc:title>Сложение и вычитание  десятичных дробей</dc:title>
</cp:coreProperties>
</file>